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21D-577F-4AE9-A5FA-62244877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620-FF0B-4825-990F-01BFE40C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865-0B74-4855-AE89-D4662F99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767-A297-4012-83DC-12A2C073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A23-DBDE-4B92-850C-8FD70566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88D-B751-4585-A856-14B95905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039-B703-4635-8EEA-44FE7A35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EDD2-B8E3-46A9-8A34-FAEC95E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E6E-4483-49BB-A2B2-E839403F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1B9-D2FD-40F5-9691-37D5B167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DCA-2644-4266-9112-334D9889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DD6-6FFB-4C2D-8FE4-E3E0B2A4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0CEC-3D49-4098-9432-B91657940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Формулы сокращенного умно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B7F-F9C9-4A12-BECC-C62AEB971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OWL"/>
          <p:cNvPicPr/>
          <p:nvPr/>
        </p:nvPicPr>
        <p:blipFill>
          <a:blip r:embed="rId1"/>
          <a:stretch/>
        </p:blipFill>
        <p:spPr>
          <a:xfrm>
            <a:off x="357120" y="2571840"/>
            <a:ext cx="1857600" cy="28670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1920960" y="2425680"/>
            <a:ext cx="72961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6249-5E3E-459A-9D2C-12F819851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00280" y="214200"/>
            <a:ext cx="17859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500040" y="2428920"/>
            <a:ext cx="84297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имся применять на практике формулы сокращенного умн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товимся к контрольной раб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0434-C08E-4ABC-A0DB-8E20C9285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071800" y="214200"/>
            <a:ext cx="41432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baseline="30000">
                <a:solidFill>
                  <a:srgbClr val="ffffff"/>
                </a:solidFill>
                <a:latin typeface="Arial"/>
              </a:rPr>
              <a:t>Девиз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урока</a:t>
            </a:r>
            <a:r>
              <a:rPr b="0" lang="ru-RU" sz="4400" spc="-1" strike="noStrike" baseline="30000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785880" y="2428920"/>
            <a:ext cx="7500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 иметь хороший ум, главное – уметь его применять.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319-25C7-4B07-8BD8-0A0187299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1143000" y="3585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рите и запишит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DBDF-07E4-4B67-8553-2F1BE67C20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1143000" y="35928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ем провер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5607-1CE5-4B13-B59F-2EED6F596C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вы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348120" y="1285920"/>
            <a:ext cx="41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706280" y="1285920"/>
            <a:ext cx="42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2714760"/>
            <a:ext cx="44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кубов двух 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518720" y="2714760"/>
            <a:ext cx="473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кубов дв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775E-997F-4E56-BA2F-64AE95E31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695600" y="2298600"/>
            <a:ext cx="540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5E6C-6989-483E-B91D-426896AE5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ошиб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49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-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2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+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60D0-5265-45E1-8FFA-148D1487A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4:26:35Z</dcterms:created>
  <dc:creator>Администратор</dc:creator>
  <dc:description/>
  <dc:language>en-US</dc:language>
  <cp:lastModifiedBy>АДМИН</cp:lastModifiedBy>
  <dcterms:modified xsi:type="dcterms:W3CDTF">2012-03-19T07:19:03Z</dcterms:modified>
  <cp:revision>60</cp:revision>
  <dc:subject/>
  <dc:title>Тренажер №2 “Формулы сокращенного умножения”</dc:title>
</cp:coreProperties>
</file>